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jpeg" ContentType="image/jpeg"/>
  <Override PartName="/ppt/media/image1.wmf" ContentType="image/x-wmf"/>
  <Override PartName="/ppt/media/image2.gif" ContentType="image/gif"/>
  <Override PartName="/ppt/media/image7.jpeg" ContentType="image/jpeg"/>
  <Override PartName="/ppt/media/image10.wmf" ContentType="image/x-wmf"/>
  <Override PartName="/ppt/media/image8.wmf" ContentType="image/x-wmf"/>
  <Override PartName="/ppt/media/image1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DB47-1FF6-4738-ADE0-D02B163F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DD9-3C66-4DA6-9EC0-5C47D8C2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FC6-4883-4273-B8CA-B366C27E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26F-1575-449C-80B6-34958B49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6E23-73E8-4B64-848D-EFA88044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C9F-2A74-4FCA-964C-ED6C8E98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176-8756-43CF-93D4-9FEA5C01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28C-3C6A-4E94-9128-EC2067B5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E2F-8986-4436-8CE4-230ACBDF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9928-2676-4544-B1E4-81F1BBFF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4D1D-224D-4121-AF0E-488936D6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E74-2FC8-4B74-B2F1-1E3BF3E8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5A4F-3468-402A-9538-E3339AAA5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irstpeople.us/FP-Html-Pictures/wolves_pg2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INFERENCE RIDDL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the clues infer what is being describ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AM I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made by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made of co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esident’s face is 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lucky if you find me head’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 kind of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make a wish 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et thrown in f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: Penn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24080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AM I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mother is a qu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n ins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ve in a col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elp flowers re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ve in a h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ke pollen and nec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tch from an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black with yellow mar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: BE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Bumble bees"/>
          <p:cNvPicPr/>
          <p:nvPr/>
        </p:nvPicPr>
        <p:blipFill>
          <a:blip r:embed="rId1"/>
          <a:stretch/>
        </p:blipFill>
        <p:spPr>
          <a:xfrm>
            <a:off x="2795760" y="1924200"/>
            <a:ext cx="3552480" cy="30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AM I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bris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put paste 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hold me in y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made of pl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ng around bathroo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ee the inside of your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ists give me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 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e so you won’t get ca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: TOOTHBRU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400800" y="5410080"/>
            <a:ext cx="2349360" cy="685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429000" y="3352680"/>
            <a:ext cx="2511360" cy="1535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14400" y="1752480"/>
            <a:ext cx="296388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AM I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me in many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faster than a bi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buy me new or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 tru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Ford helped invent 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four whe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n engine and a muff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need gas to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 license 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: C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2005 Ford GT"/>
          <p:cNvPicPr/>
          <p:nvPr/>
        </p:nvPicPr>
        <p:blipFill>
          <a:blip r:embed="rId1"/>
          <a:stretch/>
        </p:blipFill>
        <p:spPr>
          <a:xfrm>
            <a:off x="1371600" y="1600200"/>
            <a:ext cx="61912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AM I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smaller tha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reflect light from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cr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ws jump over me in rh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miles from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orbit around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ull effects ocean 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s visited me by space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l Armstrong visited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: MO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657600" cy="2346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90920" y="4038480"/>
            <a:ext cx="3657600" cy="2438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365760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AM I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be dange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ight blow my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art o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t Fuji is one of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be 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be Explo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be found in Hawa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erupt sudde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reate l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AM I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 mam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 wild an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 meat 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ravel in a p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native to 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genus-species is Canis Lu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run 20 miles per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ve in a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ook like a German Shep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: WO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Two Wolve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17524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: VOLCA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6479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AM I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umans and animals have 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’m your body’s hardest p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see me when you sm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get 2 sets of 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times I wear br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use me to chew f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ids have 20, adults have 3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am in your mou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’m a molar, canine or inc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: TEE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114800" cy="29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AM I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very 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ke to go to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me in many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me with strings att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ke to float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own turns me into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s fill me with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be puffed up with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: BALLO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781680" y="3581280"/>
            <a:ext cx="1870200" cy="2568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657600" y="1523880"/>
            <a:ext cx="1982880" cy="2764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09480" y="3581280"/>
            <a:ext cx="1870200" cy="25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AM I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lots of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ravel with eleph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people fly in the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often have three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 ring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home to cl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the greatest show on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come with a trape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swer: CIRC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49388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4:48:07Z</dcterms:created>
  <dc:creator>North Rockland Schools</dc:creator>
  <dc:description/>
  <dc:language>en-US</dc:language>
  <cp:lastModifiedBy>North Rockland Schools</cp:lastModifiedBy>
  <dcterms:modified xsi:type="dcterms:W3CDTF">2010-04-15T17:52:04Z</dcterms:modified>
  <cp:revision>7</cp:revision>
  <dc:subject/>
  <dc:title>INFERENCE RIDDLES</dc:title>
</cp:coreProperties>
</file>